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5A6-2BBC-40EA-BB60-DA9C971E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548-6F16-4405-BEE6-305A8D9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0B7-070B-4CDB-A374-27C3E272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F2A-6661-4BED-8C06-9F6A2131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93F-2B9C-4B80-A4EB-FCD5A369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49D-D329-4339-BB51-8ED4335C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C46-CAD8-46D9-AD18-14C6B230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BAD-0EF0-460B-858E-F9CEF69D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6F8-C399-45BA-A268-57704815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714-FEF5-4481-8C62-9B70FEB1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A7A-6FE9-4029-9794-59B685B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2A6-2AC3-4451-A0D9-1C84AFD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8ED2-1D54-42ED-AF81-002EBEA52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577800" y="2774880"/>
            <a:ext cx="8496360" cy="836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мятка поведения при землетрясени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2482920" y="182520"/>
            <a:ext cx="40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ЖЕТЫСУСКИЙ УНИВЕРСИТЕТ ИМЕНИ ИЛЬЯСА ЖАНСУГУРОВ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Users\user\Desktop\unnamed.jpg"/>
          <p:cNvPicPr/>
          <p:nvPr/>
        </p:nvPicPr>
        <p:blipFill>
          <a:blip r:embed="rId2"/>
          <a:stretch/>
        </p:blipFill>
        <p:spPr>
          <a:xfrm>
            <a:off x="38160" y="173160"/>
            <a:ext cx="2536920" cy="23032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3"/>
          <a:srcRect l="0" t="0" r="75750" b="-2555"/>
          <a:stretch/>
        </p:blipFill>
        <p:spPr>
          <a:xfrm>
            <a:off x="6858000" y="16668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15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если возможно, спрячьтесь под стол или кровать с прочными ножками - он защитит вас от падающих предметов и обломков, безопасным местом считается также глубокая чугунная ван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16z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сь подальше от окон и тяжелой мебели, для защиты головы от падающих предметов подойдут толстые книги, сковорода или кастр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0" y="11253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действовать после землетрясен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кажите первую медицинскую помощь нуждающимс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пользуйтесь открытым огнем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подходите к явно поврежденным зданиям, не входите в них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удьте готовы к сильным повторным толчкам, так как наиболее опасны первые 2 - 3 часа после землетрясен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входите в здания без крайней нужд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выдумывайте и не передавайте никаких слухов о возможных повторных толчках. Пользуйтесь официальными сведения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258920" y="0"/>
            <a:ext cx="6337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вила пов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сл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емлетряс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12z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вы оказались в завал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окойно оцените обстановку, по возможности окажите себе медицинскую помощ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тарайтесь укрепить объем, в котором вы оказались, с помощью камней или прочного дерева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тарайтесь установить связь с людьми, находящимися вне завала (голосом, стуком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мните, что зажигать огонь нельзя, воду из бачка унитаза можно пить, а трубы и батареи можно использовать для подачи сигнал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кономьте силы, человек может обходиться без пищи более полумесяц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13z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0" y="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МНИТЕ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спасатели работают без перерыва, пока не найдут всех пострадавши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ас обязательно найду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0" y="0"/>
            <a:ext cx="91440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емлетряс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подземные толчки и колебания земной поверхности, возникающие в результате смещения и разрывов в земной коре или верхней части мантии Земли и передающиеся на большие расстояния в виде упругих колебаний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ой землетряс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ычно бывает сдвиг в скальных породах земной коры, разлом, вдоль которого один скальный массив с огромной силой трется об друго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ой некоторых землетряс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жиданно стало и строительство крупных водохранилищ в зонах тектонических разломов, когда под весом воды одна из плит начинает с большим усилием воздействовать на другую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900000" y="144360"/>
            <a:ext cx="734400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дель землетрясения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0" y="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едствия землетряс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ые геологические я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унами, навод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ирование и гибель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реждение и разрушение 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8z"/>
          <p:cNvPicPr/>
          <p:nvPr/>
        </p:nvPicPr>
        <p:blipFill>
          <a:blip r:embed="rId2"/>
          <a:stretch/>
        </p:blipFill>
        <p:spPr>
          <a:xfrm>
            <a:off x="4572000" y="3699000"/>
            <a:ext cx="4572000" cy="3159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0" y="0"/>
            <a:ext cx="914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538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двестниками землетрясения являютс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скрение проводов линий электропередач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зкое изменение поведения животных (беспокойство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спышки в виде рассеянного света, голубоватое свечение внутренней поверхности зданий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щущение запаха газа в тех районах, где его раньше не был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зкое изменение атмосферного давления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подготовиться к землетряс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ранее продумайте план действий во время землетрясения при нахождении дома/ в учебном здании/общежитии, на работе, в кино, театре, на транспорте и на улиц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е члены семьи/учащиеся/студенты/работники ЖУ должны знать, что делать во время землетрясения и быть обучены правилам оказания первой медицинской помощ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 в удобном месте документы, деньги, карманный фонарик и запасные батарейк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ейте запас питьевой воды и консервов в расчете на несколько дн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берите кровати от окон и наружных стен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епите шкафы, полки и стеллажи в квартирах, а с верхних полок и антресолей снимите тяжелые предмет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асные вещества (ядохимикаты, легковоспламеняющиеся жидкости) не храните дома/ в корпусах/общежитиях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лжны знать, как в случае необходимости быстро отключить электричество, газ и вод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действовать во время землетрясе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щутив колебания здания, увидев качание светильников, падение предметов, услышав нарастающий гул и звон бьющегося стекла, не поддавайтесь панике (от момента, когда Вы почувствовали первые толчки до опасных для здания колебаний у вас есть 15 - 20 секунд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если вы живете/находитесь на нижних этажах: не теряя времени, быстро выйдите из здания, взяв (только заранее подготовленные!) документы, деньги и предметы первой необходим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идая помещение, спускайтесь по лестнице, а не на лифт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казавшись на улице, отойдите подальше от зданий, деревьев, линий электропередач и т.п. (на открытое пространство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сь в стороне от нависающих балконов, карнизов, парапетов, опасайтесь оборванных провод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7z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14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вынуждены остаться в помещени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ыстро встаньте в безопасном месте: у внутренней стены, в углу, во внутреннем стенном проеме или у несущей опоры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5:39:06Z</dcterms:created>
  <dc:creator>GEG</dc:creator>
  <dc:description/>
  <dc:language>en-US</dc:language>
  <cp:lastModifiedBy>Ruslan</cp:lastModifiedBy>
  <dcterms:modified xsi:type="dcterms:W3CDTF">2021-10-12T09:00:14Z</dcterms:modified>
  <cp:revision>16</cp:revision>
  <dc:subject/>
  <dc:title>Слайд 1</dc:title>
</cp:coreProperties>
</file>